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B27-B1A4-457F-A7E0-87C9B343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2AC-6001-421F-BAD9-C08DE868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9C3-1683-494C-9740-D310DE65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B5C-C780-48F8-AA17-1E843405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5FE-C233-47B9-994C-426FF71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44B-3CBC-495D-AC6A-3BB4CA59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773-B9EE-460D-BE7F-6707AB5F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7D4-81C5-4AE7-A50D-6DBFBA29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02A-0287-47F0-A430-11AB57CD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4DE-0435-42DF-A1DD-C58415C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E92-D883-4F9B-B748-EE31BE9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3FF-8526-4365-9F4D-D77172AC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5206-E7B2-4196-AA26-321D38246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h Dad Poor 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Why People Don’t Make 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n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g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ar of losing money isn’t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ful people should safe money when they are yo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losing money can be dispelled by learning from your l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eople who have made lots of money have lost lot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inspires winners and defeats lo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aste money on useless things out of f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n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” and criticism cloud your judg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eoples negative opinions can make you back out of good de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er’s Remorse can also make you back out of good d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nics think about the means without thinking about the end result or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nics criticize winners analy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z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don’t have time to manage your 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zy People work to avoid more important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e for laziness is greed. Ask what is in it fo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 a little greed 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 is better than guilt and regr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ziness says you worked hard today when you did everything except the important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are good at what they do are good because they have good habits. Arnold Schwarzenegger was strong because he made a habit to work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pay all their bills then use what is left for themselves. A better habit is to pay your self then your b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og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gance leads people to think that what they don’t know isn’t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know makes you money what you don’t loses money. “The more you know, the less you don’t know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 to Wi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8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ay “I can’t afford something”, instead ask, “How can I afford someth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yourself before you pay anyone else. You will always find away to pay the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big, dream big and you’ll los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e Big and turn that loss into a w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4:47:59Z</dcterms:created>
  <dc:creator>Info Tech</dc:creator>
  <dc:description/>
  <dc:language>en-US</dc:language>
  <cp:lastModifiedBy>Info Tech</cp:lastModifiedBy>
  <dcterms:modified xsi:type="dcterms:W3CDTF">2009-03-23T15:05:55Z</dcterms:modified>
  <cp:revision>4</cp:revision>
  <dc:subject/>
  <dc:title>Rich Dad Poor Dad</dc:title>
</cp:coreProperties>
</file>